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44D-B98A-49E8-BB4E-92795448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B90-1EC9-4D45-94DF-ACD0C41E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A7A58-E64E-4DEE-B3C6-7F9BECE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36E15-E00F-4ABF-A2C9-70875B4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32A48-DF80-4837-8AAA-B990CAB6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4662-1E9C-4ECB-AF44-26DA68D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71BE8-BF69-4441-AFE3-17EA1D7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B096F-CAFF-45DB-9A81-E0B18CD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EF022-5C79-4A15-A625-BAC7C2A1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F3242-BBB3-400E-A3F3-9C28F1A2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A8397-9D0A-479E-B286-AD7835B4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AD3BE-7F6E-4BF6-BEA5-D7BCBE1B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995-3FDF-499D-856E-6122D315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2A3F2-9EA7-4B00-BDDE-563F48AD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1AD54-AD76-45F0-B7D2-1FB4DC5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1FDC8-FD4E-4661-B63B-FC803FC4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12464-07E3-4BA2-A69D-1A1E65FA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9305F-26AE-4C52-8BAF-86474535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852EA-3D1C-4D94-91F1-617A796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ED0AF-9F05-4182-9637-657B225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74A63-1F38-43D5-A2F7-452A2B8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927B3-01D6-4658-B02E-AD92A1AA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CBEBC-238B-4E4E-BF90-D68BE0D3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B2E-1A46-4D06-BA04-C885203C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79033-6E28-40A0-B5E6-EF959853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27A3A-EFC0-44FB-A692-B1AA9EBB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A717F-C91B-4F6E-9B9C-6B725D38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0B3F2-C292-44A3-AF3C-CC9033F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18FAB-6ED6-4A64-8AD5-DF66DFD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5FD1-44E6-42FD-B18A-B8F8E3C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77720-5AE1-4168-A5A2-C5AC31C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164F5-AF33-470C-80CA-F6EEFB3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2AD66-B5DB-4D9B-8110-505A9DB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02F1-5888-43C5-89A9-02B8ADB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A1B0-9A4E-487B-A48C-5260B870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B631-C874-4C49-97DB-F5771315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D1A2C-8A47-4245-980E-8B1E8DAF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8EA9C-0843-4DCE-87D4-058E65BC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502B-77C4-42BC-B48D-4B190A51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F7EB8-B8AA-4100-B77A-93B5389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C9D4A-6A91-4D09-8DA2-58EA9F8E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770C4-CEB7-499F-80CF-2F74A8AF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FD7E2-1BAF-4A4A-8A7C-868B7B7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E198-D510-40AF-A486-99731D1E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05492-47DE-4922-AA70-1D1B183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A19-2054-4646-BD72-E733372B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77FE1-730A-4113-A38E-352A16E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0AC23-285E-49D8-B809-C53DF62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C40A9-9CAE-43CC-9389-B2386EB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F20D6-C473-462F-A51B-16582099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9B532-6154-44C8-9599-4E54E8F8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E5E-3C68-4D26-BB61-EB185BAE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172A-B195-459D-BD57-A645F31F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169A-B59F-4407-8618-C6428A9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C5E6-1DEE-4D1D-9466-2755C49F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240-15CD-4F18-97A9-FFEB3E9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B82-8BC5-409F-B7FC-3FB2EE2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368-AF39-46C0-87BB-7E77AAD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23D-C623-4611-8A8B-9C03D5C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29AA-95D6-4699-9090-6BFEA8B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D682-E531-4F9D-9133-FCAFC15F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D7A7-BBDD-46E1-A0B8-98E38119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DF59-8426-4B3F-8116-6402D47E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7720-408D-4563-83A3-DC3529D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7A9C-B504-4E66-AD93-5F8B2183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FADA-3D85-4373-B883-A5D22214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51EE-F666-4E5B-83E3-E657577E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44A-C554-4B88-B623-3E796D4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732D-70FD-4CEF-B6B8-155401E7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DD7B-AF0D-4752-A9B3-432D524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2389-AC2A-4E18-9BB1-C2E4058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8737-5E33-490D-8B9C-F33929B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3ED6-AA41-4478-A79F-11B994B3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6903-581C-49B6-806D-2D73A6BD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5E5E-6690-4373-8D5A-9EE27699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11B1-97D5-4BB7-A0FF-A7372712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E9BD-E769-45FE-9841-35A3B162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B7B1-4196-43BC-B076-F89955E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78F-1B70-4EAA-A084-43AAE8E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9509-E298-4794-A0A1-F0A5D0B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744A-7381-4BB5-B97C-0760C9C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07D9-6CDF-44E9-ADD2-5D11FB00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D018-83DC-4AE9-A2BF-A746A09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9F87-3DBA-4820-A0AF-726DDBE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4B94-8A3E-4BEB-99F8-F00418C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37B4-4EB4-4F50-BD46-D895F913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5D7D-4FCE-499E-BDA3-4933129A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DA33-368A-4273-91DA-EB99D38D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55B4-3E34-4DF0-9E10-82A31846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E61-82FF-4095-8E7F-8EA258F7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312E-9370-42B7-962D-E1B2880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0CCB-B990-4E84-8417-443F3299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0C2F5-5EA9-4E9D-8C62-9691E6B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BC11-9227-4C35-929D-1C828370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44E9-56FA-4463-96F4-F6188577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9EDC-F9FB-4B06-A918-9619B5A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DEC88-8675-4054-8AB4-7D742291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E4CB-5FDB-4A85-85F3-9493DAB0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0BD8F-4A54-4E6E-8C83-3A0DCC7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20455-3AC1-4469-AA42-1D70471D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F19-B69B-4D31-BDB1-E9886BEB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388F-3033-449C-B650-340962B8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ACDA-D75C-4641-A211-C94C0FE7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30E4-91D0-4372-842C-454A390B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F411-59F3-46C1-9DCA-0F897A10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A7EC-A5D2-479A-A70B-4FDB208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75C99-C1B2-4EE3-847E-AC8761D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E3E4-1A2F-40EA-9F58-0AA627FF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A8B2B-06E8-4932-92A3-FD13930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E084B-0B3E-4692-93BF-85D1434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0F29-F30C-4F27-B538-278B223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688-9474-4CBE-9E13-CFA9D23E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2792-928E-4578-BDC4-65F4E5A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8E65-67F3-4B2F-A915-8E919BC2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494C-F4D6-4287-93EA-385E8183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1EA3-8219-4301-A0A7-A3E16929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7785-D444-486F-BA9B-F3A35BCF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538D-6C54-48C1-B868-038B1335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B7ED-B765-48DE-A353-C2BEC784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6A3C-CA17-42CD-926D-0D96FABC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D08B1-2F0E-4D65-A294-7B1C9B4C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CE7B8-8D58-4565-97C1-9E575FC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6D8-639F-4490-BE5E-A8D1DC1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E1E2B-8592-44F0-BABB-DFDDCDA9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76DB-C5C9-442F-A30B-6600052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98B74-293E-4BFE-B7CF-2EF44A4D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BD503-B4CF-4270-B171-9C6B91C5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DA20-7069-4BE4-9505-A03FB47E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971F-52BB-4DD2-971B-54652A8F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18D2-149C-44E4-A6D4-8BE3DD6C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6CBF7-2C48-413A-B8BF-D2BD90F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D2D1-7A87-4438-BBCD-5B56F4A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9E58E-A55E-42E9-9554-23B360A8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D05-A54F-477D-8EEA-B32EA22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4296-95A8-4CB6-B7A4-EA726454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25DF2-A84F-43D0-B92C-7283C99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E5742-F0F2-4EE1-9462-9EA7D31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23186-E298-4640-8E7E-1BF8470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7157C-9B5A-45AB-9783-BBEE5224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143D6-1C17-427E-B630-911AEDD7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112E-B6D8-4561-83DB-8AA128D6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C595F-A13D-4690-810C-B2A8859E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3EE38-6F34-42F9-9B91-FB9A33C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FC81A-FB9C-4BE1-A816-9F027B3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94C0-A786-4A4D-93A4-3D5E20437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DFFF-4740-4106-B0A9-8F4253E80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2DFC-A4FF-405F-8064-862349C2A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C1E6-2C90-432C-9371-8798D64A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966-9790-4C2D-9727-F07DA3915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9BE9-36A5-42C3-89D6-5DE23B6F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F2A9-3759-4569-B756-6632F7883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486C-0881-4C92-A6BA-78B6735C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F84-6B4E-4B39-860E-114813D14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F873-89AE-416B-B915-5DDEC4533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BD1-1E83-46DE-8A0F-E967AA785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9891-79CC-4A9B-A119-29389D24F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90720" y="-609480"/>
            <a:ext cx="19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032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943600" y="2459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76720" y="-685800"/>
            <a:ext cx="198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09480" y="2209680"/>
            <a:ext cx="251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3276720" y="-838080"/>
            <a:ext cx="1295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13" descr="KT044"/>
          <p:cNvPicPr/>
          <p:nvPr/>
        </p:nvPicPr>
        <p:blipFill>
          <a:blip r:embed="rId1"/>
          <a:stretch/>
        </p:blipFill>
        <p:spPr>
          <a:xfrm>
            <a:off x="6083280" y="-380880"/>
            <a:ext cx="3060720" cy="5105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KT151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50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829-F55D-46EB-9864-9745FE82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矩形 1332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80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81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ō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85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86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90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91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Text Box 16"/>
            <p:cNvSpPr/>
            <p:nvPr/>
          </p:nvSpPr>
          <p:spPr>
            <a:xfrm>
              <a:off x="6929280" y="847800"/>
              <a:ext cx="115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32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595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596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00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01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05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06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3DD4-6C5B-4157-AF34-4D7403ED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612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613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617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618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622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623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Text Box 16"/>
            <p:cNvSpPr/>
            <p:nvPr/>
          </p:nvSpPr>
          <p:spPr>
            <a:xfrm>
              <a:off x="6929280" y="8478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ǔ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17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627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628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32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33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37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38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B6B0-0DE5-4041-A79F-C5686F621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会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认真学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真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爱爸爸和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请你告诉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是你的朋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认识我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A2B-4D48-49BA-B8E0-8A221866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048120" y="0"/>
            <a:ext cx="6492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496-D174-4F1E-9AC6-55B6FDE2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048120" y="-838080"/>
            <a:ext cx="4244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E3F-BDB9-4AA6-9758-8E3156575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1143000" y="106668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29708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584360" y="543096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2286000" y="1905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拉开天线听广播，右下半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243828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端起脸盆把水泼，右上半圆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  p  p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5869080" y="1981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6556320" y="1996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85C3-B2DD-4608-8258-C33EFEEFA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209680" y="-838080"/>
            <a:ext cx="4359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6B9-321E-4AD9-A1E4-01733C198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2666880" y="-380880"/>
            <a:ext cx="3810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6A1-2449-4768-9F78-AFE78D02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762120" y="91440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992880" y="3581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2438280" y="152388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两个门洞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  m  m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362320" y="3962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根拐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721040" y="3962520"/>
            <a:ext cx="156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  f  f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348D-3055-443B-9902-F3FD59E4E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3520" y="60948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0" y="4267080"/>
            <a:ext cx="952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2286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24382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590920" y="609480"/>
            <a:ext cx="167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572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693432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91440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724280" y="609480"/>
            <a:ext cx="236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7435800" y="609480"/>
            <a:ext cx="170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4E3-5B35-4FA9-A334-E56CEFBE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页脚占位符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4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48" name="Group 4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49" name="Picture 5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6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Text Box 7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26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53" name="Group 11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54" name="Picture 12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3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25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28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58" name="Group 8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59" name="Picture 9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Text Box 10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Text Box 27"/>
            <p:cNvSpPr/>
            <p:nvPr/>
          </p:nvSpPr>
          <p:spPr>
            <a:xfrm>
              <a:off x="6950880" y="8478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611280" y="3860640"/>
            <a:ext cx="2231280" cy="1942560"/>
            <a:chOff x="611280" y="3860640"/>
            <a:chExt cx="2231280" cy="1942560"/>
          </a:xfrm>
        </p:grpSpPr>
        <p:grpSp>
          <p:nvGrpSpPr>
            <p:cNvPr id="563" name="Group 14"/>
            <p:cNvGrpSpPr/>
            <p:nvPr/>
          </p:nvGrpSpPr>
          <p:grpSpPr>
            <a:xfrm>
              <a:off x="611280" y="3860640"/>
              <a:ext cx="2231280" cy="1942560"/>
              <a:chOff x="611280" y="3860640"/>
              <a:chExt cx="2231280" cy="1942560"/>
            </a:xfrm>
          </p:grpSpPr>
          <p:pic>
            <p:nvPicPr>
              <p:cNvPr id="564" name="Picture 15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611280" y="3860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16"/>
              <p:cNvSpPr/>
              <p:nvPr/>
            </p:nvSpPr>
            <p:spPr>
              <a:xfrm>
                <a:off x="813960" y="4206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29"/>
            <p:cNvSpPr/>
            <p:nvPr/>
          </p:nvSpPr>
          <p:spPr>
            <a:xfrm>
              <a:off x="1332000" y="450828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3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568" name="Group 3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569" name="Picture 3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Text Box 3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3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573" name="Group 3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574" name="Picture 3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4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4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04B-1E23-4BB6-ABE4-29C20804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1:07:47Z</dcterms:created>
  <dc:creator/>
  <dc:description/>
  <cp:keywords/>
  <dc:language>en-US</dc:language>
  <cp:lastModifiedBy>User</cp:lastModifiedBy>
  <dcterms:modified xsi:type="dcterms:W3CDTF">2016-10-05T12:05:2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